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0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2C9-AA27-42CA-8464-6DDAFB57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outdarwin.com/voyage/voyage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7C7-2599-4C48-912A-E6A54B82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D28-AE2A-4EF6-8BC7-2936C13E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237-586A-4A00-84B2-F4651D4E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0BA-B5AD-4D5D-A942-E6151670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97D-A7D3-4145-A4F7-01AF176F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F83-24CF-4301-8B94-D187D75E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A38-26CB-4069-B49B-AD40072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4DD-6845-4166-8AA5-01F7577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466-D885-4904-B1A0-DE340914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8A9-FCDD-444B-8912-DD601D0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C47-ADE7-434A-8D32-2C03B87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A51-85C0-44D8-9CE7-4BD58FB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996C-1532-4A04-86E6-D9B3F4B8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mphlbRhLu8&amp;index=2&amp;list=PL5270149AB732F0FB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&amp; 7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d mechanisms of artificial selection (pigeon breed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39000" y="2438280"/>
            <a:ext cx="1900080" cy="3962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althu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ay                      on the Principle of                   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7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00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 Evolutio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vmphlbRhLu8&amp;index=2&amp;list=PL5270149AB732F0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 embarked on the second voyage of the HMS Beagle on December 27,1831, on a survey expedition under the command of Captain Robert Fitzr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purpose of the expedition was to map out the southern coast of South America, and Darwin was on board as a geologist, to collect specim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90600"/>
            <a:ext cx="8458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lora &amp; fauna (plants &amp; animals) on the Galapagos as on mainl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895840" cy="1812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215892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098440" cy="231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548640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stinct species of finches and mock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14640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7242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ptodon (like the armadi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therium (like the sl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73356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349720" cy="189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934320" y="4648320"/>
            <a:ext cx="16761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44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572000" cy="227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tigi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343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0384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28:46Z</dcterms:created>
  <dc:creator>rubina khan</dc:creator>
  <dc:description/>
  <dc:language>en-US</dc:language>
  <cp:lastModifiedBy>rubina khan</cp:lastModifiedBy>
  <dcterms:modified xsi:type="dcterms:W3CDTF">2015-05-25T12:51:05Z</dcterms:modified>
  <cp:revision>33</cp:revision>
  <dc:subject/>
  <dc:title>PowerPoint Presentation</dc:title>
</cp:coreProperties>
</file>